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3C3-575E-4E56-AC05-049A4348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952-4295-45BA-9303-A2BE745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6E4-85FA-42B7-8C45-47C13B76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DE-A577-4AB0-96E0-F8603EA5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293-D5D4-46AD-B094-D8308C7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410-9ABA-4124-B4BC-FC48AC96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251-D64A-441A-BA1A-CACB51EE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10C-0BE4-497A-808A-46D9493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38C-EEE7-4A83-8072-1F34900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BAB-59A7-43FA-826C-44BC439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976-B3ED-4E1C-936D-9FFF82A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549-EB36-4481-8794-2DE9EE5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E81-F4A8-42EC-9BC3-41A4372B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itle2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 Extra Bold"/>
              </a:rPr>
              <a:t>Program and Portfolio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8991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David S.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Rockwell"/>
              </a:rPr>
              <a:t>Ed.S. Program:  Media &amp; Instruction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University of West 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dividual Needs &amp; Inter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student-centric models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ntuate personal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 how the mobile technology revolution is impacting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be on the cusp of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esire to grow into a transformational leader through my mentoring relationships at U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esire to use my influence to nudge people towards emerging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subscribe to the belief that anyone can learn anything at anytime from anywhere in the world through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vid S. Robert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m a certified life coach and professional adult education director for a faith-based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would like to develop online learning communities in this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lso aspire to develop a career in higher education in instruction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avid Close Up 2.jpg"/>
          <p:cNvPicPr/>
          <p:nvPr/>
        </p:nvPicPr>
        <p:blipFill>
          <a:blip r:embed="rId2"/>
          <a:stretch/>
        </p:blipFill>
        <p:spPr>
          <a:xfrm>
            <a:off x="914400" y="2057400"/>
            <a:ext cx="2590920" cy="1779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ically sav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time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ger to col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ip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d to th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WOT_Strenth.png"/>
          <p:cNvPicPr/>
          <p:nvPr/>
        </p:nvPicPr>
        <p:blipFill>
          <a:blip r:embed="rId2"/>
          <a:stretch/>
        </p:blipFill>
        <p:spPr>
          <a:xfrm>
            <a:off x="914400" y="1752480"/>
            <a:ext cx="2209680" cy="23716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ly impaired; legally 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sure to so much technology tendency to lose compe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’s rapid life cycle could make current training obso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WOT_weaknesses.png"/>
          <p:cNvPicPr/>
          <p:nvPr/>
        </p:nvPicPr>
        <p:blipFill>
          <a:blip r:embed="rId2"/>
          <a:stretch/>
        </p:blipFill>
        <p:spPr>
          <a:xfrm>
            <a:off x="990720" y="1828800"/>
            <a:ext cx="2246040" cy="23623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ky is th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s  + Ed.S = multiple career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d personal contacts in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career trajectori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WOT_opportunities.png"/>
          <p:cNvPicPr/>
          <p:nvPr/>
        </p:nvPicPr>
        <p:blipFill>
          <a:blip r:embed="rId2"/>
          <a:stretch/>
        </p:blipFill>
        <p:spPr>
          <a:xfrm>
            <a:off x="914400" y="1676520"/>
            <a:ext cx="2374920" cy="25146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going educational funding ques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ition of my progressive eye disease an ever-present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WOT_threats.png"/>
          <p:cNvPicPr/>
          <p:nvPr/>
        </p:nvPicPr>
        <p:blipFill>
          <a:blip r:embed="rId2"/>
          <a:stretch/>
        </p:blipFill>
        <p:spPr>
          <a:xfrm>
            <a:off x="914400" y="1676520"/>
            <a:ext cx="2438280" cy="2598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s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ome proficient at Web 2.0 to launch Classroom 2.0 in my sphere of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an online learning environment using open architecture tools like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p into existing collaboration technology and exploit for educational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powerful partnerships with progressive thinkers in the area of dista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.S. Instructional Technology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developing online courses and learn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ional development to harness technology integration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ctional design and web site authoring skil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ationale for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believe blended and hybrid education is one of the most effecti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-your-pace, at-your-place” learning models will ultimately reach mor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entury skills will help students better compete in the global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1:47:30Z</dcterms:created>
  <dc:creator>David Robertson</dc:creator>
  <dc:description/>
  <dc:language>en-US</dc:language>
  <cp:lastModifiedBy>David Robertson</cp:lastModifiedBy>
  <dcterms:modified xsi:type="dcterms:W3CDTF">2011-02-22T18:33:07Z</dcterms:modified>
  <cp:revision>36</cp:revision>
  <dc:subject/>
  <dc:title>Slide 1</dc:title>
</cp:coreProperties>
</file>